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EB973-2088-47AE-9277-D3F8DF8E6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61BCF-5780-4DF8-844F-FFBF2326D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52BE3-FFDC-43B0-864F-8CF0D0907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6F9B7-613C-4768-8F7F-B788E9464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4C22F7-4B07-4A56-96E5-B3414EE5CE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B9EE6-BA1C-4EA3-A384-5F1A24DB4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42EE2-33D8-4AE4-B24F-EF0CACC4B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96E9A-BBE3-4ACB-8410-006E7356F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BED3B-AB8F-436F-8469-E4FA0B94C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71946-657B-43C1-BC81-74E398B69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37D79-8710-4C02-B36B-51C570697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040AB-BA60-434E-A6F3-78A4BEC4B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1D553-CE18-48B4-82CB-5A30C5FFB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13B05-CBAD-4C03-98F6-86C5A1149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9844B-62B9-4BAE-96F7-93520F89E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39E8E-90E1-441A-9AE0-32F96DC087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822FD8-73BA-4F71-9F44-8A347296F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35C9A5A-558D-405E-8764-CCCB42AC2D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4D9FDC6-0C45-449E-9678-0199FBBA19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BC51973-63AE-4354-AC7B-03C67CD990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D9F7059-3169-455F-AD10-DF81EA1A03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7D69B66-5893-4587-9E98-9F8C219647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80D4D-3BED-4639-A9AA-207CE7BC1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1CF4A01-5E64-45DD-96D3-F7BFDBCFFE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72DC87F-735B-4A8B-AFD1-DF7938F100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695C2EA-75D1-468E-BF1A-E0ACE5F36E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58F7EEE-156C-4DE3-865C-41DF56B85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CB47915-EE47-4C2C-A601-F49A064E47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3675062-869E-4AC7-B199-C255866345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F475656-4F4C-4BB6-A4BE-E23F643D0D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41DC7A5-BEB5-4A90-81B5-78970EE9C0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63EA2C5-E135-4C56-8AF9-3F0740FF01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AF37800-6956-4482-A432-CA7B247384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756F9-8ABD-43AE-B845-5AC9116EB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13BC754-4EED-4065-984B-35975763A8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79B9FEC-E243-4905-A613-17223A98A6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91E43BB-E89F-465D-BC23-BD0D38A454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7CD1B07-2B0B-4328-BE7E-3393AE76D8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980587E-AED8-4AE9-848F-FBD53B2D13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94AD963-2E71-48C6-B348-633AF3D7E2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B3999E0-692F-4FEF-8B88-ADA83C1F44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102437A-75DA-4DF3-A302-4C62DF1008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D8B9E95-4E19-4A17-B7D3-11597F084F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0DB5093-DF9C-4377-8FFE-046704C8AA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C41B4-D311-4F4C-83CC-BDE71F1CC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EBB6226-79D2-48DA-8F90-AE3C94DBB5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3543E44-7F0E-46AA-A9D2-09F79A3926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D152CFE-3909-44B3-AD96-4F0E500DED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A7EFEF4-87DF-4268-8BC9-3EED34EDF3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39E783D-C981-4028-AFD9-797270D4DF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C3A719-2FF6-428D-A08A-86C24B3FC7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EBD0EFE-D591-4E25-B866-AC3F17D5CB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E78C6D2-C35C-4986-A4EA-DB97DEA29A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8E09BD8-F825-46C9-8C9A-603B1C6B9D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CFA67FB-1862-46D5-82A6-93BAE7FF10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4873B-96CD-4DFB-95B6-97A25D5D8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0A47E16-8AA1-43F5-91FA-68D06F195C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2F593B-0867-474C-AB5E-E51DED55BE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5F4E58-C631-46A9-9A3A-6AD9D079AB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0160A7-33A1-4AA1-B855-23BD84C52D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93F040-597E-4FC3-82C1-1F7A2FF3EC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CBA61C-2692-4F28-AED7-B2D13C53DD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D34B15-9FA5-4BF6-99FF-1B1B11BADF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422A4D-9B25-408F-839B-D93E2BE41F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88857C-11B5-4951-BBC6-5C6E817B77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83D30C-C1A0-40B5-BA06-066CE35669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94344-A1F6-4462-9665-E2042C180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78193A-7440-486F-85F6-7D089F1CC2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15803C-D8E6-4A9B-B494-C29C189A1A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C13EC0-4067-4CA8-B8FF-FEAFE59B12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6972561-76BE-40E9-B2E2-26A1C7833F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CAF11DF-8A39-4783-BC98-0C3BA49A15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1677D0D-8700-4A31-885C-932705D05A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6B7EFC0-F5EE-4413-8675-69126E622E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189A338-C864-447F-80F4-623BF3012B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68AFDAC-B362-4658-9310-BD3C66C70C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A59ED3A-7857-4BB1-9942-81FF5777BE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9B909-0C13-4D5B-B702-A9CDDE3E0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A592903-6BBD-48E0-B36C-72EB55592E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E757781-EB00-444E-B0B3-E5BB997B2A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D3CA1F2-2818-472F-A6B2-0977417749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FB68843-8542-4C71-B90C-7600D96224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E46CA13-A634-43DF-8B91-3DBCADF479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960305-79EA-4BFC-9867-129368F60E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A4A095-ACB6-4B5E-8B1C-B21A0C3921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2924CA-7589-404E-8E15-577F5E3ED9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FF4DF7-BF88-4EED-A1FA-3750892A4F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2ACAFA-F765-4B28-986D-9D903377C8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21AE3-BDC5-4F4F-BB16-81497BC17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84F0CF-1EF3-49B0-859B-2A9CA16C67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21D6A7-F53D-484C-A94C-A6FF3D7A96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9D4803-4432-485E-B555-A618737CC0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D0FD23-0CB8-4505-A249-4ED5F0C4A5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83FC50-3140-4660-B8AA-394AC0BB68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C9431F-5161-436A-A30B-5072EC0D3F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589858-4EBC-423F-A841-ADADCC9ECE2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8204-627B-474F-B855-BDA3F0F2A00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A10B-584D-4DCC-9BFA-AC647805397B}"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DD07C-DCFC-4701-B1C7-C2E1DE6F1C66}"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7E08-0AE2-4089-8BF7-C48943ABDAC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13FC0-9341-40FE-A024-E758D6F2CE5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5D617-0863-425C-A18C-5F79B62CD3C5}"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0D31-6809-4850-9728-14B51827F712}"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49C7-19D4-4889-AE54-3B7F4783691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agintensificationafrica.wikispaces.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AADP – CGIAR ALIGNMENT</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Tom Arnold to the Dar Workshop, 6 Feb 2011</a:t>
            </a:r>
            <a:endParaRPr b="0" lang="en-US" sz="2600" spc="-1" strike="noStrike">
              <a:solidFill>
                <a:srgbClr val="ffffff"/>
              </a:solidFill>
              <a:latin typeface="Tw Cen MT"/>
            </a:endParaRPr>
          </a:p>
        </p:txBody>
      </p:sp>
      <p:sp>
        <p:nvSpPr>
          <p:cNvPr id="352" name="Slide Number Placeholder 2"/>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64658-61E7-4A39-9E82-B55F97C5C607}" type="slidenum">
              <a:rPr b="1" lang="en-US" sz="1400" spc="-1" strike="noStrike">
                <a:solidFill>
                  <a:srgbClr val="ebddc3"/>
                </a:solidFill>
                <a:latin typeface="Tw Cen MT"/>
              </a:rPr>
              <a:t>&lt;number&gt;</a:t>
            </a:fld>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1</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w Cen MT"/>
              </a:rPr>
              <a:t>Mapping and Aligning African Agriculture Research Needs and Investments</a:t>
            </a:r>
            <a:endParaRPr b="0" lang="en-US" sz="25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ncept note to be finalized by Feb 18 for SC approval by end February (coordinated by IFPRI)</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rmation of Working Group to plan prototyping activit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gree Africa-wide Agroecosystem/FS framework, and select priority system(s) for a prototype stud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mpare documented research needs in selected system(s) to documented research investments of relevance to those systems (“Mapping” of research demands to suppl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t>
            </a:r>
            <a:r>
              <a:rPr b="0" lang="en-US" sz="2200" spc="-1" strike="noStrike">
                <a:solidFill>
                  <a:srgbClr val="000000"/>
                </a:solidFill>
                <a:latin typeface="Tw Cen MT"/>
              </a:rPr>
              <a:t>Mapping” pilot study review meeting (May 2012)</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lignment Meeting with donor community, African country and regional partners, and research community (TBD)</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w Cen MT"/>
              </a:rPr>
              <a:t>A Process for Developing the Agenda for Agricultural Science in Africa </a:t>
            </a:r>
            <a:endParaRPr b="0" lang="en-US" sz="29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RA and partners to lead a participatory process that will determine key issues for agricultural science development over a 15-20 year time frame</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sultation with High Level Expert Group</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Linkages with the Mapping and Foresight exercises</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cept note to be completed by FARA 18</a:t>
            </a:r>
            <a:r>
              <a:rPr b="0" lang="en-US" sz="2600" spc="-1" strike="noStrike" baseline="30000">
                <a:solidFill>
                  <a:srgbClr val="000000"/>
                </a:solidFill>
                <a:latin typeface="Tw Cen MT"/>
              </a:rPr>
              <a:t>th</a:t>
            </a:r>
            <a:r>
              <a:rPr b="0" lang="en-US" sz="2600" spc="-1" strike="noStrike">
                <a:solidFill>
                  <a:srgbClr val="000000"/>
                </a:solidFill>
                <a:latin typeface="Tw Cen MT"/>
              </a:rPr>
              <a:t> Feb for SC approval by end of Feb</a:t>
            </a:r>
            <a:endParaRPr b="0" lang="en-US" sz="2600" spc="-1" strike="noStrike">
              <a:solidFill>
                <a:srgbClr val="000000"/>
              </a:solidFill>
              <a:latin typeface="Tw Cen MT"/>
            </a:endParaRPr>
          </a:p>
          <a:p>
            <a:pPr lvl="1" marL="594720" indent="-253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endParaRPr b="0" lang="en-US" sz="2600" spc="-1" strike="noStrike">
              <a:solidFill>
                <a:srgbClr val="000000"/>
              </a:solidFill>
              <a:latin typeface="Tw Cen MT"/>
            </a:endParaRPr>
          </a:p>
        </p:txBody>
      </p:sp>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2</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w Cen MT"/>
              </a:rPr>
              <a:t>CAADP Pillar 4 Technical Workshops</a:t>
            </a:r>
            <a:endParaRPr b="0" lang="en-US" sz="29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RA to take lead in partnership with SROs and NPCA to develop the first technical workshop focused on productivity issues in alignment with country investment plans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irst Workshop to take place by July 2012</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xplore linkages with USAID SI workshop outcomes</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cept note to be finalized by FARA 18</a:t>
            </a:r>
            <a:r>
              <a:rPr b="0" lang="en-US" sz="2600" spc="-1" strike="noStrike" baseline="30000">
                <a:solidFill>
                  <a:srgbClr val="000000"/>
                </a:solidFill>
                <a:latin typeface="Tw Cen MT"/>
              </a:rPr>
              <a:t>th</a:t>
            </a:r>
            <a:r>
              <a:rPr b="0" lang="en-US" sz="2600" spc="-1" strike="noStrike">
                <a:solidFill>
                  <a:srgbClr val="000000"/>
                </a:solidFill>
                <a:latin typeface="Tw Cen MT"/>
              </a:rPr>
              <a:t> Feb for SC approval by end of Feb</a:t>
            </a:r>
            <a:endParaRPr b="0" lang="en-US" sz="2600" spc="-1" strike="noStrike">
              <a:solidFill>
                <a:srgbClr val="000000"/>
              </a:solidFill>
              <a:latin typeface="Tw Cen MT"/>
            </a:endParaRPr>
          </a:p>
          <a:p>
            <a:pPr lvl="1" marL="588240" indent="-250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endParaRPr b="0" lang="en-US" sz="2600" spc="-1" strike="noStrike">
              <a:solidFill>
                <a:srgbClr val="000000"/>
              </a:solidFill>
              <a:latin typeface="Tw Cen MT"/>
            </a:endParaRPr>
          </a:p>
        </p:txBody>
      </p:sp>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3</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ligned Initiative</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AID Sustainable Intensification (SI) Program</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ne of the Research Strategy Components under  the US Government’s </a:t>
            </a:r>
            <a:r>
              <a:rPr b="0" i="1" lang="en-US" sz="2900" spc="-1" strike="noStrike">
                <a:solidFill>
                  <a:srgbClr val="000000"/>
                </a:solidFill>
                <a:latin typeface="Tw Cen MT"/>
              </a:rPr>
              <a:t>Feed the Future </a:t>
            </a:r>
            <a:r>
              <a:rPr b="0" lang="en-US" sz="2900" spc="-1" strike="noStrike">
                <a:solidFill>
                  <a:srgbClr val="000000"/>
                </a:solidFill>
                <a:latin typeface="Tw Cen MT"/>
              </a:rPr>
              <a:t>initiative</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itial phase of program 2012-2017, involving assessment of the sustainable intensification benefits of integrated production system components in 3 target Farming System landscapes in SSA.</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AID Intensification Workshops </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Purpose</a:t>
            </a:r>
            <a:r>
              <a:rPr b="0" lang="en-US" sz="2400" spc="-1" strike="noStrike">
                <a:solidFill>
                  <a:srgbClr val="000000"/>
                </a:solidFill>
                <a:latin typeface="Tw Cen MT"/>
              </a:rPr>
              <a:t>: Engage CGIAR Centers, USAID’s Collaborative Research Support Programs, donor partners, USAID country and regional missions, African continental and sub-regional organizations, partner country agencies and research institutes, and NGOs to develop research agendas and work plans for target farming systems (under overall umbrella of the Sustainable Intensification Program)</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Outcomes:</a:t>
            </a:r>
            <a:endParaRPr b="0" lang="en-US" sz="24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Develop monitoring and evaluation plans (coordinated by IFPRI)</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Improve alignment of USAID investments</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Plan for project workshops and full design</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imeline for design and implementation</a:t>
            </a: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AID Intensification Workshops</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e meetings in January and February, 2012</a:t>
            </a:r>
            <a:endParaRPr b="0" lang="en-US" sz="29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anuary 9-12: West Africa Sudano-Sahelian Zone, Tamale, Ghana (Lead CG Center: IITA)</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anuary 30- February 2: Ethiopian Highlands, Addis Ababa, Ethiopia (Lead CG Center: ILRI)</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ebruary 6-9: Eastern and Southern Africa maize-mixed region, Dar es Salaam, Tanzania (Lead CG Center: IITA)</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formation on the 3 sustainable intensification workshops may be found at </a:t>
            </a:r>
            <a:r>
              <a:rPr b="0" lang="en-US" sz="2600" spc="-1" strike="noStrike" u="sng">
                <a:solidFill>
                  <a:srgbClr val="f7b615"/>
                </a:solidFill>
                <a:uFillTx/>
                <a:latin typeface="Tw Cen MT"/>
                <a:hlinkClick r:id="rId1"/>
              </a:rPr>
              <a:t>http://agintensificationafrica.wikispaces.com/</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pporting a Science Agenda for African Agriculture</a:t>
            </a:r>
            <a:endParaRPr b="0" lang="en-US" sz="4400" spc="-1" strike="noStrike">
              <a:solidFill>
                <a:srgbClr val="775f55"/>
              </a:solidFill>
              <a:latin typeface="Tw Cen MT"/>
            </a:endParaRPr>
          </a:p>
        </p:txBody>
      </p:sp>
      <p:sp>
        <p:nvSpPr>
          <p:cNvPr id="354"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BB7A-C80E-4774-9517-31A22D63CCF3}"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orkshop hosted by Irish Aid (June 30 and July 1, 2011) regarding support for agricultural research in Africa.</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Objectives of the workshop </a:t>
            </a:r>
            <a:r>
              <a:rPr b="0" lang="en-US" sz="2400" spc="-1" strike="noStrike">
                <a:solidFill>
                  <a:srgbClr val="000000"/>
                </a:solidFill>
                <a:latin typeface="Tw Cen MT"/>
              </a:rPr>
              <a:t>– </a:t>
            </a:r>
            <a:endParaRPr b="0" lang="en-US" sz="24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w Cen MT"/>
              </a:rPr>
              <a:t>Explore how African country and regional agriculture and food security investment plans to advance CAADP can inform and guide CGIAR,  African country and regional agricultural research programs and identify opportunities to leverage existing relationships to better align around a science agenda for African agriculture.</a:t>
            </a:r>
            <a:endParaRPr b="0" lang="en-US" sz="21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Supporting a Science Agenda for African Agriculture -Meeting Outcomes</a:t>
            </a:r>
            <a:endParaRPr b="0" lang="en-US" sz="4000" spc="-1" strike="noStrike">
              <a:solidFill>
                <a:srgbClr val="775f55"/>
              </a:solidFill>
              <a:latin typeface="Tw Cen MT"/>
            </a:endParaRPr>
          </a:p>
        </p:txBody>
      </p:sp>
      <p:sp>
        <p:nvSpPr>
          <p:cNvPr id="357"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D6CBB-E5AE-4F22-8F23-6F61630A9DF4}"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58"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Joint Steering Committee </a:t>
            </a:r>
            <a:r>
              <a:rPr b="0" lang="en-US" sz="2000" spc="-1" strike="noStrike">
                <a:solidFill>
                  <a:srgbClr val="000000"/>
                </a:solidFill>
                <a:latin typeface="Tw Cen MT"/>
              </a:rPr>
              <a:t>was  formed with equal representation and membership from the African Partners (AUC, NEPAD and FARA), CGIAR Consortium and Development Partners.</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Members include</a:t>
            </a:r>
            <a:r>
              <a:rPr b="0" lang="en-US" sz="2000" spc="-1" strike="noStrike">
                <a:solidFill>
                  <a:srgbClr val="000000"/>
                </a:solidFill>
                <a:latin typeface="Tw Cen MT"/>
              </a:rPr>
              <a:t>:</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m Arnold (CGIAR), Ousmane Badiane (IFPRI/CGIAR), Martin Bwalya (NPCA), Abebe Haile Gabriel (AUC), Jeff Hill (USAID),  Monty Jones (FARA),  Agnes M’wangombe (CGIAR), David Nielson (World Bank), and David Radcliffe (EC), Coordinator: Kerri Wright Platais (World Bank).</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C met four times since August (virtually) and created concept notes, timelines and preliminary budgets for each activity within the first four months.  Now ready to finalize and move to implementatio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ADP-CGIAR Activities</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ve major areas of work:</a:t>
            </a:r>
            <a:endParaRPr b="0" lang="en-US" sz="20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 Memorandum of Understanding between the AUC and the CGIAR Consortium</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old a series of scientific module workshops based on agro-ecological zones to develop a technical implementation framework for bridging and aligning the CGIAR Research Portfolios (CRPs) and CAADP National and Regional Investment Plans</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olidify the major linkages involved in an African Science Agenda for Agriculture</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rganize and implement technical regional workshops on Agriculture Productivity, Research and Extension</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 framework informed by the above activities to include operational plans for national, regional and continental wide efforts over the short- (2 year), medium- (5 year) and long-term (10 year) commitments, considered essential for the advancement of agricultural research</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ree Concept Note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Mapping and Aligning African Agricultural Research Needs and Investments</a:t>
            </a: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A Process for Developing the Agenda for Agricultural Science in Africa</a:t>
            </a: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CAADP Regional Workshops on Agricultural Productivity</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U with AUC and CGIAR</a:t>
            </a:r>
            <a:endParaRPr b="0" lang="en-US" sz="44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 draft and discussions between the representatives of the Steering Committee and the legal staff of each group.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e goal is to have a signed MOU by early 2012.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cluded in the MOU will be joint action for the response to the Horn of Africa crisis, through a Joint Program Design process for Ethiopia, Kenya and Uganda with discussions between governments, the World Bank and USAID, and other development partners.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rocess coordinated within the regional program effort led by the Intergovernmental Authority on Development (IGAD).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 technical consortium will provide assistance support at the country level with program design efforts and will consist of the CGIAR Consortium (ILRI coordinating) in partnership with FAO, WFP and others to provide a longer-term framework for research activities.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oad Map for Future</a:t>
            </a:r>
            <a:endParaRPr b="0" lang="en-US" sz="4400" spc="-1" strike="noStrike">
              <a:solidFill>
                <a:srgbClr val="775f55"/>
              </a:solidFill>
              <a:latin typeface="Tw Cen MT"/>
            </a:endParaRPr>
          </a:p>
        </p:txBody>
      </p:sp>
      <p:sp>
        <p:nvSpPr>
          <p:cNvPr id="366" name=""/>
          <p:cNvSpPr txBox="1"/>
          <p:nvPr/>
        </p:nvSpPr>
        <p:spPr>
          <a:xfrm>
            <a:off x="612720" y="1600200"/>
            <a:ext cx="8153280" cy="4495680"/>
          </a:xfrm>
          <a:prstGeom prst="rect">
            <a:avLst/>
          </a:prstGeom>
          <a:noFill/>
          <a:ln w="0">
            <a:noFill/>
          </a:ln>
        </p:spPr>
        <p:txBody>
          <a:bodyPr lIns="90000" rIns="90000" tIns="46800" bIns="46800" anchor="t">
            <a:normAutofit/>
          </a:bodyPr>
          <a:p>
            <a:pPr lvl="1"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evelop a framework (once all activities are underway) to include operational plans for national, regional and continental wide efforts over the short- (2 year), medium- (5 year) and long-term (10 year) commitments, considered essential for the advancement of agricultural research</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228600"/>
            <a:ext cx="8385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ADP-CGIAR Workshop (at FARA)</a:t>
            </a:r>
            <a:endParaRPr b="0" lang="en-US" sz="44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lIns="90000" rIns="90000" tIns="46800" bIns="46800" anchor="t">
            <a:normAutofit fontScale="90000"/>
          </a:bodyPr>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January 27-28, 2012</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The objective: Outline and reach agreement on the content, work plan, timeline and budget for an implementation phase of the CAADP-CGIAR work for the Steering Committee to approve and mobilize.</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Workshop</a:t>
            </a:r>
            <a:r>
              <a:rPr b="0" lang="en-US" sz="2100" spc="-1" strike="noStrike">
                <a:solidFill>
                  <a:srgbClr val="000000"/>
                </a:solidFill>
                <a:latin typeface="Tw Cen MT"/>
              </a:rPr>
              <a:t> </a:t>
            </a:r>
            <a:r>
              <a:rPr b="1" i="1" lang="en-US" sz="2100" spc="-1" strike="noStrike">
                <a:solidFill>
                  <a:srgbClr val="000000"/>
                </a:solidFill>
                <a:latin typeface="Tw Cen MT"/>
              </a:rPr>
              <a:t>Outcomes</a:t>
            </a:r>
            <a:r>
              <a:rPr b="0" lang="en-US" sz="2100" spc="-1" strike="noStrike">
                <a:solidFill>
                  <a:srgbClr val="000000"/>
                </a:solidFill>
                <a:latin typeface="Tw Cen MT"/>
              </a:rPr>
              <a:t>: </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fine whether and how foresighting for agricultural innovation for Africa would guide an overall agriculture science agenda: what are the limits, the challenges and how can they be overcome? This will draw on the experiences with foresighting work from other parts of the world (and include a review of the earlier studies).</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fine the scope of the Agricultural Science Agenda; its content, methodology for its development, and identification of the human resources needed.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nd reach agreement including the assignment of responsibilities on a work program, timeline and budget for the implementation phase for wider distribution with additional partners.</a:t>
            </a:r>
            <a:endParaRPr b="0" lang="en-US" sz="18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endParaRPr b="0" lang="en-US" sz="16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orkshop Participants</a:t>
            </a:r>
            <a:endParaRPr b="0" lang="en-US" sz="4400" spc="-1" strike="noStrike">
              <a:solidFill>
                <a:srgbClr val="775f55"/>
              </a:solidFill>
              <a:latin typeface="Tw Cen MT"/>
            </a:endParaRPr>
          </a:p>
        </p:txBody>
      </p:sp>
      <p:sp>
        <p:nvSpPr>
          <p:cNvPr id="370" name=""/>
          <p:cNvSpPr txBox="1"/>
          <p:nvPr/>
        </p:nvSpPr>
        <p:spPr>
          <a:xfrm>
            <a:off x="304560" y="1600200"/>
            <a:ext cx="4267080" cy="495288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FARA</a:t>
            </a:r>
            <a:endParaRPr b="0" lang="en-US" sz="16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Monty Jones                   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Ramadjita Tabo              Deputy 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Emmanuel Tambi             Director, Advocacy and Policy</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Myra Wopereis-Pura      Director, Access to Knowledge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and Technologies</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Irene Annor-Frempong     Director, Capacity Strengthening</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dewale Adekunle          Director, Partnerships and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Strategic Alliances</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Kaj Bjork                        Director for Finance</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Ralph von Kaufmann        Technical Cordinator, UNIBRAIN</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ggrey Agumya              Technical Advisor to the</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Ifidon Ohiomoba              Manager, PSTAD</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nn Dela Apekey             Gender Specialist</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Oluwole Fatunbi               Programme Officer, SSA CP</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Nelson Ojijo                     Programme Officer, Capacity</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Strengthening</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71" name="Content Placeholder 2"/>
          <p:cNvSpPr/>
          <p:nvPr/>
        </p:nvSpPr>
        <p:spPr>
          <a:xfrm>
            <a:off x="4707000" y="1600200"/>
            <a:ext cx="4437000" cy="44956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World Bank</a:t>
            </a:r>
            <a:endParaRPr b="0" lang="en-US" sz="16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David Nielson</a:t>
            </a: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Lead Agricultural Services</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Specialis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Matt MacMahon</a:t>
            </a:r>
            <a:r>
              <a:rPr b="0" lang="en-US" sz="1300" spc="-1" strike="noStrike">
                <a:solidFill>
                  <a:srgbClr val="000000"/>
                </a:solidFill>
                <a:latin typeface="Tw Cen MT"/>
              </a:rPr>
              <a:t>	</a:t>
            </a:r>
            <a:r>
              <a:rPr b="0" lang="en-US" sz="1300" spc="-1" strike="noStrike">
                <a:solidFill>
                  <a:srgbClr val="000000"/>
                </a:solidFill>
                <a:latin typeface="Tw Cen MT"/>
              </a:rPr>
              <a:t>Consultan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Jurgen Anthofer</a:t>
            </a:r>
            <a:r>
              <a:rPr b="0" lang="en-US" sz="1300" spc="-1" strike="noStrike">
                <a:solidFill>
                  <a:srgbClr val="000000"/>
                </a:solidFill>
                <a:latin typeface="Tw Cen MT"/>
              </a:rPr>
              <a:t>	</a:t>
            </a:r>
            <a:r>
              <a:rPr b="0" lang="en-US" sz="1300" spc="-1" strike="noStrike">
                <a:solidFill>
                  <a:srgbClr val="000000"/>
                </a:solidFill>
                <a:latin typeface="Tw Cen MT"/>
              </a:rPr>
              <a:t>Senior Agricultural Specialis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Kerri Wright Platais</a:t>
            </a:r>
            <a:r>
              <a:rPr b="0" lang="en-US" sz="1300" spc="-1" strike="noStrike">
                <a:solidFill>
                  <a:srgbClr val="000000"/>
                </a:solidFill>
                <a:latin typeface="Tw Cen MT"/>
              </a:rPr>
              <a:t>	</a:t>
            </a:r>
            <a:r>
              <a:rPr b="0" lang="en-US" sz="1300" spc="-1" strike="noStrike">
                <a:solidFill>
                  <a:srgbClr val="000000"/>
                </a:solidFill>
                <a:latin typeface="Tw Cen MT"/>
              </a:rPr>
              <a:t>Coordinator CAADP-CGIAR </a:t>
            </a: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Programs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Bremala Nathan</a:t>
            </a:r>
            <a:r>
              <a:rPr b="0" lang="en-US" sz="1300" spc="-1" strike="noStrike">
                <a:solidFill>
                  <a:srgbClr val="000000"/>
                </a:solidFill>
                <a:latin typeface="Tw Cen MT"/>
              </a:rPr>
              <a:t>	</a:t>
            </a:r>
            <a:r>
              <a:rPr b="0" lang="en-US" sz="1300" spc="-1" strike="noStrike">
                <a:solidFill>
                  <a:srgbClr val="000000"/>
                </a:solidFill>
                <a:latin typeface="Tw Cen MT"/>
              </a:rPr>
              <a:t>Operations Officer</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Other</a:t>
            </a:r>
            <a:endParaRPr b="0" lang="en-US" sz="16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Harold Roy-Macauley       Programme Manager, CORAF</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Lance O’Brien                   Irish Agriculture &amp; Food Developmen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Authority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John Lazier                       Advisor, CIDA</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Stanley Wood                  Senior Research Fellow, IFPRI</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w Cen MT"/>
              </a:rPr>
              <a:t>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4T17:06:28Z</dcterms:created>
  <dc:creator>Gunars H. Platais</dc:creator>
  <dc:description/>
  <dc:language>en-US</dc:language>
  <cp:lastModifiedBy>PBallantyne</cp:lastModifiedBy>
  <dcterms:modified xsi:type="dcterms:W3CDTF">2012-02-07T05:37:35Z</dcterms:modified>
  <cp:revision>31</cp:revision>
  <dc:subject/>
  <dc:title>CAADP – CGIAR Alignment</dc:title>
</cp:coreProperties>
</file>